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oney-close.wav" ContentType="audio/x-wav"/>
  <Override PartName="/ppt/media/carcr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5C06-FC41-4452-A03A-3771E65CA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37F9-B177-4126-A0BA-F2333A8D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FCB5-A0B3-440A-8BE8-1EAA7759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1F92-9F0E-4B46-9466-60FF10781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6159-E4E8-4493-B867-DB6EFEA9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C297-0CFC-4A44-9731-7D4170D0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50D8-0558-40E7-A6D0-B98A5689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DE80-A01D-49FB-B3C9-BF177FDB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9EF3-B615-400F-AA72-BC13FDA3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7EEF-4612-4B61-932C-AA189423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96F7-AAE2-4027-8171-64D4D512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72F5-23AA-439C-BC1F-E39E7557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6796-2EFE-41D9-89FF-115CF40D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8D58-08DC-41A3-B89E-4371624B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22F0-7237-4530-8072-03828D65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41B2-EBC8-4978-A518-A07645346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E1D1-268B-455C-B6DE-29589F5E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BD47-47A5-433D-A35D-4DF08C12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3B59-83B4-41FB-B777-2093BD7C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6B3F-22BC-43BD-B275-EDB1E4D7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3A93-1389-478B-8ADC-0E62593E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B340-010A-4E4F-A62B-90C2BB08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E771-CC3A-431C-842A-20C101D6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2BCF-85BA-40A5-A402-E369C9D2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2869-F712-444E-9EE4-C2EEB673322B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5091-935A-4F90-9181-C481238A1B83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loney-close.wav"/><Relationship Id="rId3" Type="http://schemas.openxmlformats.org/officeDocument/2006/relationships/audio" Target="../media/carcrsh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wenty Questions 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60199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loney-clo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cr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8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9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1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2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3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4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5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6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7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enty Ques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2362320"/>
          <a:ext cx="7692840" cy="3724200"/>
        </p:xfrm>
        <a:graphic>
          <a:graphicData uri="http://schemas.openxmlformats.org/drawingml/2006/table">
            <a:tbl>
              <a:tblPr/>
              <a:tblGrid>
                <a:gridCol w="1538640"/>
                <a:gridCol w="1538640"/>
                <a:gridCol w="1538280"/>
                <a:gridCol w="1538640"/>
                <a:gridCol w="1538640"/>
              </a:tblGrid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8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9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7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5:03:25Z</dcterms:created>
  <dc:creator>Connie Campbell</dc:creator>
  <dc:description/>
  <dc:language>en-US</dc:language>
  <cp:lastModifiedBy>Connie Campbell</cp:lastModifiedBy>
  <dcterms:modified xsi:type="dcterms:W3CDTF">2002-05-31T21:55:06Z</dcterms:modified>
  <cp:revision>3</cp:revision>
  <dc:subject/>
  <dc:title>Twenty Questions </dc:title>
</cp:coreProperties>
</file>